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8907"/>
        <c:axId val="74702905"/>
      </c:barChart>
      <c:catAx>
        <c:axId val="9478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02905"/>
        <c:crosses val="autoZero"/>
        <c:auto val="1"/>
        <c:lblAlgn val="ctr"/>
        <c:lblOffset val="100"/>
        <c:noMultiLvlLbl val="0"/>
      </c:catAx>
      <c:valAx>
        <c:axId val="74702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8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049-2F6E-44EC-A605-C85257E8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962-E490-4DB0-B2E2-D9B4ABDD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E52-BD45-4912-8A1E-70FF61DC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E89-C05C-427D-A306-C215C478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ADD-358D-467C-B4C1-982381DC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CE8-98F8-4411-A8FA-5CC008E5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D3A-6C4E-4D73-B379-4BFDDEED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C1A-99E8-4C02-B40D-DF94E54F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86F-5167-4C54-9CD2-BB6D59B3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D6B-34D5-4580-8D87-6AA1D722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B0A-D5D8-4AEF-A753-24986FB7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08A-EF64-4DDD-AD3B-A5964AA4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B8760-2C65-40CE-AF98-926E4D341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