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78319"/>
        <c:axId val="70727536"/>
      </c:barChart>
      <c:catAx>
        <c:axId val="36678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7536"/>
        <c:crosses val="autoZero"/>
        <c:auto val="1"/>
        <c:lblAlgn val="ctr"/>
        <c:lblOffset val="100"/>
        <c:noMultiLvlLbl val="0"/>
      </c:catAx>
      <c:valAx>
        <c:axId val="70727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78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252-FF3E-4F28-89FE-750ACBDC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2E7-A082-498A-AE9D-E224ED07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550-DDC4-4FBA-A98C-3D129770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63B-32A4-4AB0-B5ED-27BAB079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594-E719-4C8F-B5F1-B97983A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298-26DD-4A37-A3FF-A479445A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6DC-4CED-4F46-BC35-E987757D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CEA-9255-4697-BA8D-031DD35F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E12-6A61-4AAE-AEF5-4B19DFB0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215-AC6A-408B-82C7-097E634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D86-6F61-493D-A8FF-34DCDE8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174-F6CE-4C83-8288-220567A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C5CFF-9C11-40AF-BE7D-82429DB8C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