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2015"/>
        <c:axId val="83107844"/>
      </c:barChart>
      <c:catAx>
        <c:axId val="7502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07844"/>
        <c:crosses val="autoZero"/>
        <c:auto val="1"/>
        <c:lblAlgn val="ctr"/>
        <c:lblOffset val="100"/>
        <c:noMultiLvlLbl val="0"/>
      </c:catAx>
      <c:valAx>
        <c:axId val="83107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2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B29-164B-4B79-95D8-08C210B5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4D9-91B8-4B50-8616-DF93D28B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D9C-8FCD-4106-8A1E-DB8F665E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4DA-0864-43F7-B89F-4BE88D64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648-53AB-4E62-8768-987DEB59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E2E-A392-4BFD-B75B-81C4D660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BCC-E353-420B-99A1-C7CD5951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343-CA45-4CC6-A9B8-A030F6F9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04F-DDF6-4D03-9DE9-65FDA8D9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0A6-A954-4749-8600-87E8FB82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A4D-A1CA-4268-8836-636932BC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CE5-56DD-4405-BBFC-5129E201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705E3-0045-4D7D-88EF-491227783C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